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F44-C77B-4BCF-9ABC-DE9A5391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B9DE-59FB-4E48-9598-768D61BF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255-B65D-4391-AD63-CEC4BB82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E8C-1521-4525-AC9A-5A5DE2E9D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6BD-570A-4C5C-A4EB-6A5AB9AF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35BC-EA56-4E2C-BC32-31347927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4EF-C543-4072-A6EC-D15739F1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6F73-2912-4EB0-97ED-C9A5D96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30C-075A-4CCB-8CF3-A712E7BC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0AB-ED0B-4671-9E10-34364288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C35-1290-4BB6-A270-B3125ED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D6A-7BEB-467B-9730-219AA0E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DFEE-6D97-48FC-920A-B0E5582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028-60C6-4179-B98C-4DE5828D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977-3280-4295-8D42-F3CCDC2C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D4CD-594F-459F-A5F2-AE0FE56E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F105-FE1F-491E-B566-C002E328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1BF-8E0F-4D99-BFB9-DFB08F63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0B3-3AEC-45D7-92BE-2584799F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804-66E6-4695-A0C4-3A301C3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8CB-6F6B-444C-B73D-B9A8022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3BB-A4BC-4E22-A73F-58BC028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B5D-7035-42C2-A88E-9C8C530A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64F-355E-462C-83DF-209DA32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B79F-903A-45CF-9DF2-93C60570D6A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23B-646A-4821-8E3A-A735BC9FD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655-9AE3-43A2-AE05-1AA160ECC68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AC6-4D4C-4B06-9054-C16736144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02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ntel Teach to the Fu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rner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9D12-D702-435A-A8C4-7420F8E4C3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328071-6B28-4FDB-9AB1-BD7F94ABC1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02920" y="1341000"/>
            <a:ext cx="7156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Work on your 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Design and create at least </a:t>
            </a:r>
            <a:r>
              <a:rPr b="1" lang="en-ZA" sz="1800" spc="-1" strike="noStrike">
                <a:solidFill>
                  <a:srgbClr val="ffff00"/>
                </a:solidFill>
                <a:latin typeface="Verdana"/>
              </a:rPr>
              <a:t>two</a:t>
            </a: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 learner support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Pair and share your resource with a colleag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In your feedback to each other try t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Mention what you like about the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Ask questions about the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Recommend one possible improv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Consider and make changes based on the feedback</a:t>
            </a:r>
            <a:r>
              <a:rPr b="1" lang="en-ZA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Verdana"/>
              </a:rPr>
              <a:t>Save resources in your learner support fol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EC0-39F6-4012-B719-B4D4D121DB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3A682-33A3-4FE8-B301-70AC0F31A3F6}" type="datetime1">
              <a:rPr lang="en-US"/>
              <a:t>07/28/26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o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COMPUTERS AREN’T MAGIC, TEACHERS AR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TWO THINGS ROB PEOPLE OF THEIR PEACE OF MIND, UNFINISHED WORK AND WORK NOT YET BEGU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ZA" sz="3200" spc="-1" strike="noStrike">
                <a:solidFill>
                  <a:srgbClr val="ffffff"/>
                </a:solidFill>
                <a:latin typeface="Monotype Corsiva"/>
              </a:rPr>
              <a:t>DON’T WAIT FOR YOUR SHIP TO COME IN…………………. SWIM OUT TO MEET I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358-DD99-4930-AA0A-EB5D5BC2B8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24217-A984-4C2D-9DC4-3ABE2A4186E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ER SUPPO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urpose of this module and activity is for participants to consider th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upport that th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arners will requi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uring this project and to prepare learner support materials for the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gathering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emp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processing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ng the presenting ph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. presentation storybo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382F-C46D-4C32-B25F-9649867120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629CE-28B0-49FB-849C-9C33659A2D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ccecff"/>
                </a:solidFill>
                <a:latin typeface="Arial"/>
              </a:rPr>
              <a:t>LEARNER SUPPOR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O SUPPORT THE LEARNER IN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ACHIEVING THE PROJECT’S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LEADING LEARNER FROM WHAT THEY KNOW TO WHAT YOU WANT THEM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PPORTING THE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WEAKNESSES OF LEAR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PROVIDING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GUIDANCE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WHERE IT I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LEADING QUESTIONS TO GUIDE THI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DISCUSSING TO GIVE DI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REFERRING TO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GIVING EXAMP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GROUP INTERACTION AND PEER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MODEL THINKING OR PROC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77360" y="550080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155-C65A-4F20-B77F-01DE627D2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A370C-F699-4DCF-A03A-6E3E5D2F61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PHASES OF PROJECT-BASED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LEARNING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llenge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are given a task that challenges them to think. They also clarify their information needs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ther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identify what information they will find and where to find it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cess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evaluate, analyse and synthesise the information that they find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senting phas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in which the learners present their findings/resear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5E0-2283-4266-AADE-3BE75F53B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C9195-E2CD-492E-B666-F2890A965C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affolding (Learner Support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builders use a scaffold to support and shape a building, educators use "scaffolding" to support and give structure to the learners' thin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arpentersunion.ca/ graphics/scaffold.jp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84360" y="3071880"/>
            <a:ext cx="3959280" cy="26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0A8-4CBB-45D3-A69D-35F3EF9399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B12D3-39EA-424B-9090-84950C6203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ccecff"/>
                </a:solidFill>
                <a:latin typeface="Arial"/>
              </a:rPr>
              <a:t>TYPES OF SCAFFOLD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RECEP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OW WE CAN HELP LEARNERS IDENTIFY, ORGANISE AND RECORD WHAT IS IMPORTANT, ACQUIRING INFORMATION 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interview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observation tem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note taking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PRODUC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ELP LEARNERS TO PLAN AND PRODUCE WHAT THEY HAVE LEAR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- storyboards, writing templates, worksh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00"/>
                </a:solidFill>
                <a:latin typeface="Arial"/>
              </a:rPr>
              <a:t>TRANSFORMATION SCAFFOL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HELP LEARNERS TO THINK AS THEY PROCESS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ZA" sz="1800" spc="-1" strike="noStrike">
                <a:solidFill>
                  <a:srgbClr val="ffffff"/>
                </a:solidFill>
                <a:latin typeface="Arial"/>
              </a:rPr>
              <a:t>eg. Venn Diagrams, Features Chart, Comparison 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5C8-C514-4876-ABA9-BF7160F54B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D4540-5C56-4B46-8E74-5103F72E53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onsider the exam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iscuss ideas about how to support learners in your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evelop a learner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support strategy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for the project entitled: “Can we live without mone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ffffff"/>
                </a:solidFill>
                <a:latin typeface="Arial"/>
              </a:rPr>
              <a:t>record thi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Gather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roce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Knowledge p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List name the learner support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3F6-8028-4778-A18E-D99B4FE8E6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E9A76-E4C3-4EEF-8482-D2D184FC742E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436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ccecff"/>
                </a:solidFill>
                <a:latin typeface="Century Gothic"/>
              </a:rPr>
              <a:t>Activity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Work in pa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Consider the exam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iscuss ideas about how to support learners in your pro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Develop a learner </a:t>
            </a:r>
            <a:r>
              <a:rPr b="1" lang="en-ZA" sz="2400" spc="-1" strike="noStrike">
                <a:solidFill>
                  <a:srgbClr val="ffff00"/>
                </a:solidFill>
                <a:latin typeface="Arial"/>
              </a:rPr>
              <a:t>support strategy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for the your projec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record this as follows in your project pl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Gather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Process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Knowledge production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List and name the learner support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M JACOB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50D-91B5-44FE-908E-578E3211CD8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614E6-35C0-421A-BE08-DD8A8FEC26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7:32:02Z</dcterms:created>
  <dc:creator>MMOEDERICK</dc:creator>
  <dc:description/>
  <dc:language>en-US</dc:language>
  <cp:lastModifiedBy>MMOEDERICK</cp:lastModifiedBy>
  <dcterms:modified xsi:type="dcterms:W3CDTF">2006-08-04T20:44:23Z</dcterms:modified>
  <cp:revision>18</cp:revision>
  <dc:subject/>
  <dc:title>Slide 1</dc:title>
</cp:coreProperties>
</file>